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B66-3728-4167-9161-9580CCE7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2EB-235E-4810-AB35-CBA0582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B30-C1DD-4742-9A70-D21B50C1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FBD-0672-4640-BEF2-39E92452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A48-DFE8-439D-96F3-2614685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C6C-69D9-4FA9-963F-8C741F5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5CF-E733-4024-9E92-2BF725B0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32D-CF1D-4111-A165-9B2C4C5C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D55-31C1-4350-B3D4-1A9E5DAD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1BF-50B8-4344-9162-7577784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4EC-4B0C-4C82-BD42-2204752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C87-9BF6-43D3-AB1D-D5E1A7E5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2D8-9507-4D01-B24B-2CC953FDAC8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238D-F3FF-402E-B010-0A707A058CF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ducate.intel.com/tr/thinkingtools/visualranki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95D0-E981-400B-9D72-16591A26D5EC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015-6C4C-420E-A8BD-4DDC90F1716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158c81df3fb57e7fdbd681b9c661b6f7_1276265837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87D-7E2C-4EBD-89FF-3A1407EA4166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164-1FAB-4EA6-911D-DA011C1DA81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®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Öğretmen Programını Anl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0 yılında piyasaya sürülmüş dünya çapında yaygın bir programd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35 ülkede 3 milyondan fazla öğretmen bu programla eğitimden geçmiş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6528-2843-4419-B0D6-4D488FB8426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DCFB-BF54-4617-AF40-BEB08BFCFDF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4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aynakları Gözden Geçir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ayn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D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’yi yerleştir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uradan Başlayın’a tıklayın ve sonra CD’yi Başlatın’a tıklayı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CD içinde yer alan kaynakları inceleyin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aynak CD için önerebileceğiniz kaynaklar varsa bunları not alıp Eğitici Liderinize ulaştırı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C23D-35DC-45A0-9D32-3B9A7C84CF89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8D24-135C-4325-A3B3-7989392D36F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5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noloji Kullanımına Yönelik Web Kaynaklarını Sapt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ayn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CD’yi yerleştir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uradan Başlayın’a tıklayın ve sonra CD’yi Başlatın’a tıklay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l bölmedeki Forum Araçlarını ve sonra da Forum Web Sitesini tıklayı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ağlantılar üzerine tıklayarak kaynaklara ulaşı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itelerinin içinde dolaşarak ve kitabınızdaki yönergeleri takip ederek kaynakları keşfetmeye çalışı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8BD6-54D3-4D44-B5B6-51DC965377CD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C8A4-4062-46E0-AE6F-0B9E8CF6F19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5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noloji Kullanımına Yönelik Web Kaynaklarını Sapt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ngi kaynakları yararlı buldunuz? N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ngi ünite planları ilginizi çekt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lere teknoloji kullanımı konusunda yardımcı olurken bu kaynaklar nasıl bir yarar sağlar?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39C-5218-4C46-ABF1-DC369FE174C1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8A5A-E7BF-4324-BB04-F4594EC7C60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eb 2.0 Araçlarını Keşfet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Modül Sorular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Web 2.0 teknolojilerini, okulumun ya da ilimin/ilçemin teknoloji planları içine nasıl entegre edebiliri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Web 2.0 araçları öğretmenlerle, ailelerle, öğrencilerle ve toplum üyeleriyle gerçekleştirilen günlük iletişime nasıl bir katkı sağlar?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6793-F4CB-43FA-8069-AE141252BEA8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0FF-016F-4426-8788-AE13F71BA69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2 | Etkinlik 1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Web 2.0 Araçlarını Anla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kulunuzda ya da ilinizde/ilçenizde Web 2.0 araçlarını kullanıyor musunuz? Nası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20A0-DC63-4BEB-AB3C-A882CE576232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11EB-F472-48C5-A307-11DE696BA81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iderlik Davranış ve Standartlarını İncel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ınıfta teknoloji kullanımının nasıl olduğunu görmemiz için bir fırsat olar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3 bizi etkili teknoloji kullanımını destekleyecek belirli liderlik davranışlarına götürecekti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B5B-A09C-4619-8C34-F0B467BBBB6E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F8D1-C65A-40A9-9438-92FF79A2B91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iderlik Davranış ve Standartlarının İncelen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Sorular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ğretim sürecinde teknoloji kullanımını desteklemek için hangi üç liderlik davranışının temel rol oynadığına inanıyorsunuz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öneticilere yönelik hangi ulusal standartlar bulunmaktadır ve öğretim sürecinde teknolojinin etkili kullanımını desteklemek için hangi temel koşullar gereklidir?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3A3F-00D1-4F17-BF4E-5EFDCF27771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1D67-BE7F-4336-A2B5-2E7CFDFF78B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sel Sıralama Aracını Tanı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424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000000"/>
                </a:solidFill>
                <a:latin typeface="Arial"/>
              </a:rPr>
              <a:t>Görsel Sıralama Arac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en-US" sz="22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http://educate.intel.com/tr/thinkingtools/visualran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Sıralama için ve listelerdeki maddelerin karşılaştırılması için ücretsiz çevrimiçi kayn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Öğretmenlerin ve öğrencilerin üzerinde çalışabilecekleri serbest bir a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4"/>
          <a:srcRect l="1275" t="25252" r="39370" b="40698"/>
          <a:stretch/>
        </p:blipFill>
        <p:spPr>
          <a:xfrm>
            <a:off x="3132000" y="3645000"/>
            <a:ext cx="44006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20D-0ADB-4AF0-8EC9-27F0B9F6680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B9D8-16DB-4C2C-A008-637594C4EC2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1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sel Sıralama Aracını Tanıma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tkili teknoloji kullanımını desteklemede liderlik davranışlarını sıralamak ve karşılaştırmak için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örsel Sıralama Aracını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ullan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endi önem sıranıza göre davranışları sıralay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76FE-DF97-4969-A5F5-8CBD03CA0E3C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1140-ACC0-4BA1-B5BF-E1132D52E5B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Forumu Tanı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Temel S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5050"/>
                </a:solidFill>
                <a:latin typeface="Arial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r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99"/>
                </a:solidFill>
                <a:latin typeface="Arial"/>
              </a:rPr>
              <a:t>Intel® Öğretmen Programı Liderlik Forumu’nun temel amacı ne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99"/>
                </a:solidFill>
                <a:latin typeface="Arial"/>
              </a:rPr>
              <a:t>Forum sonunda neler kazanmış olacaksınız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EB.tiff"/>
          <p:cNvPicPr/>
          <p:nvPr/>
        </p:nvPicPr>
        <p:blipFill>
          <a:blip r:embed="rId1"/>
          <a:stretch/>
        </p:blipFill>
        <p:spPr>
          <a:xfrm>
            <a:off x="637236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intel.tiff"/>
          <p:cNvPicPr/>
          <p:nvPr/>
        </p:nvPicPr>
        <p:blipFill>
          <a:blip r:embed="rId2"/>
          <a:stretch/>
        </p:blipFill>
        <p:spPr>
          <a:xfrm>
            <a:off x="730872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DCF-7A9B-41F2-8FC4-742FBA16AAEB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7BD5-4F93-498B-8772-A9A12F56A44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2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isteme Giri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dı: Eğitici Li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 Adını buraya gir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akım Adı: Kullanıc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 (xx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1’den 20’ye kadar size atanmış numaradı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Şif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Kullanıc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 (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akım Adıyla ayn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onraki etkinliklerde hatırlayabilmeniz için Sisteme Giriş Bilgileri bölümüne bunları yaz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F92A-715D-4F82-8B46-4096A2D445E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6901-2B23-4120-ABB6-393B943F3CB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Davranışları Sınıflandırmak ve Sıralamak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ıralamaları Karşılaştırmak ve Tartış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steme giri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nu zaten yapmıştını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ınıflandırın ve sıralayı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rşılaştırın ve tartışı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dedin ve sistemden çıkı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0DD5-97CE-4099-A80B-84F8E290A3C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786-3C16-4A9A-8DFB-C4EA65B9B0C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Lider Davranışlarının Sıralanması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n Önemliler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izyonun paylaşım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raştırmayı temel al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knoloji ortamının desteklenmes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itelikli teknoloji kullanım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knoloji kullanımında model ol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I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aynakların dağıtım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ersonelin değerlendirilmes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şit erişi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izli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üven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V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B644-D366-42E4-9C38-BC21F558214A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F34-18D0-458B-A699-6F1EFBFC222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ciler için Standartları Anlama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424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E –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ğitim Teknolojisi Uluslararası Topluluğ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–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lusal Eğitim Teknolojisi Standart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Yöneticiler iç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ğretmenler iç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 “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ğrenciler içi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0B1-EB0A-451B-8697-86143CA4E93A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E34C-B84E-4DD5-B39C-EBA895C7D61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STE NETS-A Standartlarını İncele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324000" y="1557360"/>
          <a:ext cx="8496000" cy="424800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ğrenme ve Öğret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.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t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E755-7B9F-4AAF-8EC0-4770E1CCEAF4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A3A-A2C8-44E2-85EB-F1F15816BA0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| Etkinlik 4: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ıralamayı Tekrar Gözden Geçir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elirlediğiniz en önemli lider davranışlarını hatırlay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-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örsel Düzenleyicisinde yer alanlar ile kendi belirlediklerinizi karşılaştır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rubunuzla/arkadaşınızla yaptığınız karşılaştırma sonuçlarınızı paylaş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3BAC-38D9-4984-A9D2-C353752C542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5652-E166-4698-A2D6-53EE8C6CA4D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3 S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’ün bana en çok yardımcı olduğu konu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Görsel Sıralama Arac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E NETS-A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örsel Düzenleyic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irlikte Konuşma ve Düşün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97C2-F1A1-4380-B586-126B673C9B59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A99C-08DC-4588-B1D8-757EDA7CAE1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ylem Planınızı Geliştirme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2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Teknoloji kullanımının nasıl olduğunu ve etkili teknoloji kullanımını destekleyecek liderlik davranışlarının neler olduğunu gördükten son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sel eylem planınızı geliştirirken öğrendiklerinizi uygulamanıza yardımcı olacaktı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6605-0EEA-4C0E-89BE-F4D9C7570DF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44B0-3246-4403-BC3B-96CC9745F665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Kendi Eylem Planınızın Yapılandırılmas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odül Soru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kulumda ya da ilimde/ilçemde teknolojiden etkili ve verimli biçimde yararlanmak için kişisel olarak neler yapabiliri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ısa, orta ve uzun vadede hangi liderlik davranışlarını sergileyebiliri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B526-FF53-455C-B7E6-04C5FB53C094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126-ACC9-401F-8477-CAA8E8838062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1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İşlevsel Plan Oluştur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İstekli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maçlı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Gerekli kaynak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ğlantı kurulacak ya da sürece dahil edilecek kiş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Bu konuda düşündüğünüz başka bir şey var mı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E8D6-630E-4986-BD15-A6F438DAD44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CA78-DA26-40F3-AA66-BD384E58F6C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Temel Ama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Intel® Öğretmen Programı Liderlik Forumu, teknolojinin öğretim ve yönetim süreçlerinde bir araç olarak etkili kullanımını teşvik etmek, desteklemek ve model olmak konularında size yardımcı olmak amacıyla oluşturulmuştur.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EB.tiff"/>
          <p:cNvPicPr/>
          <p:nvPr/>
        </p:nvPicPr>
        <p:blipFill>
          <a:blip r:embed="rId1"/>
          <a:stretch/>
        </p:blipFill>
        <p:spPr>
          <a:xfrm>
            <a:off x="6084720" y="5877000"/>
            <a:ext cx="78768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intel.tiff"/>
          <p:cNvPicPr/>
          <p:nvPr/>
        </p:nvPicPr>
        <p:blipFill>
          <a:blip r:embed="rId2"/>
          <a:stretch/>
        </p:blipFill>
        <p:spPr>
          <a:xfrm>
            <a:off x="702000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6B5-1913-453E-9F39-1A8FC05CAE5E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DCAE-6D1A-411B-A311-0958398D49D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ylem Planlarını Paylaş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nızı uygularken ne tür sorunlarla karşı karşıya kalabilirsini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Önemli role sahip paydaşların sürece aktif katılımını nasıl sağlayacaksını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Planınızı uygulamaya yönelik hangi acil eylemleri gerçekleştirmeye çalışırsını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Okulunuzda ya da ilinizde/ilçenizde teknoloji kullanımını yaygınlaştırmak ve geliştirmek için bireysel olarak olarak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z ne yapacaksını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B7D4-5549-4F84-AE8D-737DB7214590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8B0C-BA50-4582-BB68-6F961C57FD5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S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için planlama yaparken en fazla aşağıdakilerin hangisinden yardım aldınız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Şabl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Şablon örnekl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fikirl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k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na ilişkin eşleş-paylaş etkinliğ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AD94-6358-49E4-9880-258F7FDEE810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14E-D8BD-4353-B747-7A55D7E4DD5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3 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Sonraki Aşamaya Odaklan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book32.tiff"/>
          <p:cNvPicPr/>
          <p:nvPr/>
        </p:nvPicPr>
        <p:blipFill>
          <a:blip r:embed="rId3"/>
          <a:stretch/>
        </p:blipFill>
        <p:spPr>
          <a:xfrm>
            <a:off x="468360" y="1782720"/>
            <a:ext cx="82072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D132-F5FA-4C4A-A8C2-09F7D1208C37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DE1-D35A-4C0B-A009-4077529C803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4 | Etkinlik 4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Forumu Değerlendir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Çevrimiçi ankete katılı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http://www.hmh-degerlendirme.com/intel/for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ağlantısına gidi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Anketi tamamlamak için ekrandaki yönergeleri takip ed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MEB.tiff"/>
          <p:cNvPicPr/>
          <p:nvPr/>
        </p:nvPicPr>
        <p:blipFill>
          <a:blip r:embed="rId2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intel.tiff"/>
          <p:cNvPicPr/>
          <p:nvPr/>
        </p:nvPicPr>
        <p:blipFill>
          <a:blip r:embed="rId3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80CE-2268-4E31-89C4-31894A3CDB2B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87B5-49AB-4251-A521-B3110F4FA386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Tebrikler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tel® Öğretmen Programına Liderlik Forumu’na katılımınızdan dolayı teşekkür ederi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eknoloji kullanımı konusundaki harcadığınız emek, zaman ve yorumlarınız için sizi tebrik ediyoruz!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8F1-47B8-43A7-9584-0C6B03F73EE9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085A-2B4F-46A8-8BFF-81155ACF671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35A1-94FE-4CA3-9267-9BBA674E14E3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C70-A73E-40BB-B762-9BB5775FE088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Sizin hedef(ler)iniz n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Neler bekliyorsunuz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MEB.tiff"/>
          <p:cNvPicPr/>
          <p:nvPr/>
        </p:nvPicPr>
        <p:blipFill>
          <a:blip r:embed="rId1"/>
          <a:stretch/>
        </p:blipFill>
        <p:spPr>
          <a:xfrm>
            <a:off x="6084720" y="5877000"/>
            <a:ext cx="787680" cy="79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intel.tiff"/>
          <p:cNvPicPr/>
          <p:nvPr/>
        </p:nvPicPr>
        <p:blipFill>
          <a:blip r:embed="rId2"/>
          <a:stretch/>
        </p:blipFill>
        <p:spPr>
          <a:xfrm>
            <a:off x="716436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3E58-8598-4F5D-84EE-6AE28B52FF4B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AA0-43D7-47BE-81FB-219BE28C5F30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um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Hedefl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828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STE Temel Koşullarını ve Liderler/Yöneticiler için ISTE Ulusal Eğitim Teknolojisi Standartlarını (NETS-A) incelemek, analiz etmek ve uygula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EB.tiff"/>
          <p:cNvPicPr/>
          <p:nvPr/>
        </p:nvPicPr>
        <p:blipFill>
          <a:blip r:embed="rId1"/>
          <a:stretch/>
        </p:blipFill>
        <p:spPr>
          <a:xfrm>
            <a:off x="615636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intel.tiff"/>
          <p:cNvPicPr/>
          <p:nvPr/>
        </p:nvPicPr>
        <p:blipFill>
          <a:blip r:embed="rId2"/>
          <a:stretch/>
        </p:blipFill>
        <p:spPr>
          <a:xfrm>
            <a:off x="7164360" y="587700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5082-1AA0-4F08-ABE4-4D315BD234C9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7416-EAB7-4D1A-A01F-2382EAF073D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Tanışm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dın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Okulunuz ya da ilçeniz ile ilgili bilg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Görevin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E65B-810B-4CBF-84F2-A46749D50CD0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F208-5F6F-4610-979A-A38E541D917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Başlark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tkinli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 Planı Şablonuna Bakış</a:t>
            </a:r>
            <a:br>
              <a:rPr sz="2400"/>
            </a:b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Kişis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Ey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KİŞİSEL olarak ne yapabilirim?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24000" y="1557360"/>
          <a:ext cx="8496000" cy="3959280"/>
        </p:xfrm>
        <a:graphic>
          <a:graphicData uri="http://schemas.openxmlformats.org/drawingml/2006/table">
            <a:tbl>
              <a:tblPr/>
              <a:tblGrid>
                <a:gridCol w="4824360"/>
                <a:gridCol w="1224000"/>
                <a:gridCol w="1295280"/>
                <a:gridCol w="1152360"/>
              </a:tblGrid>
              <a:tr h="719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</a:t>
                      </a: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an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047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ğrenm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ğret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sleki Uygulamalar / Üstlenilen Görevl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ğerlendi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.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t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tr-T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91E-1BE3-44AC-A787-2D521F9663CB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5736-A598-48D9-ADD5-9255ADC15BE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2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Varsay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lerin etkililiğini destekleyen lider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eknoloji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nemli olduğuna ve öğrenme ve öğretmede far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yarattığı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n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Teknoloji ve öğretmenleri destekleme konularında istekli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unun öğrenciler için yapılacak doğru şey olduğuna inanı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Veri Yer Tutucusu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586-0572-4252-8824-D76202D94604}" type="datetime">
              <a:rPr b="0" lang="tr-T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 Altbilgi Yer Tutucusu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İZMİR LİDERLİK FORUMU EKİB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Slayt Numarası Yer Tutucusu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E633-1F27-4F07-9723-E084133B815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Modül 1 | Etkinlik 3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Intel® Öğretmen Programını Anlama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Neden Intel eğitime yatırım yapmaktadı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®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ğretmen Programını nasıl buluyorsunuz? Ne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EB.tiff"/>
          <p:cNvPicPr/>
          <p:nvPr/>
        </p:nvPicPr>
        <p:blipFill>
          <a:blip r:embed="rId1"/>
          <a:stretch/>
        </p:blipFill>
        <p:spPr>
          <a:xfrm>
            <a:off x="6300720" y="587700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intel.tiff"/>
          <p:cNvPicPr/>
          <p:nvPr/>
        </p:nvPicPr>
        <p:blipFill>
          <a:blip r:embed="rId2"/>
          <a:stretch/>
        </p:blipFill>
        <p:spPr>
          <a:xfrm>
            <a:off x="7308720" y="5950080"/>
            <a:ext cx="1041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24:28Z</dcterms:created>
  <dc:creator>dbm</dc:creator>
  <dc:description/>
  <dc:language>en-US</dc:language>
  <cp:lastModifiedBy>Hülya-HP</cp:lastModifiedBy>
  <dcterms:modified xsi:type="dcterms:W3CDTF">2010-12-05T14:34:40Z</dcterms:modified>
  <cp:revision>9</cp:revision>
  <dc:subject/>
  <dc:title>Slayt 1</dc:title>
</cp:coreProperties>
</file>